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9FA-D355-4225-A6F8-657CAE8D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C45-156D-4753-87D5-09D4B9F1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FC3-10AF-496B-9ED7-1690D39D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A86-FF20-41CD-8E9F-367F4E08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A3A-D946-42A1-9098-887CB723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F59-A898-4093-8DB4-E2C571A6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E41-9AD7-42DD-B311-776D4189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9DA-1825-4E8C-9E6B-9553CD3A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711-5F57-450C-B785-6112452B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CDA-17BF-4805-8F11-75D24736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2EF-D8FD-4400-BE82-1B42B410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6B6-3A09-4F2F-95B0-3AAEC985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EA75-FDB6-4E62-8524-A937AE06C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2133720"/>
            <a:ext cx="7543800" cy="2895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is is Just To 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295280" y="56386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By Caroline &amp; Cl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Bauhaus 93"/>
              </a:rPr>
              <a:t>I forgot to feed the fish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Bauhaus 93"/>
              </a:rPr>
              <a:t>The red, green and blue fish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Bauhaus 93"/>
              </a:rPr>
              <a:t>that were in the bowls in my room.</a:t>
            </a:r>
            <a:r>
              <a:rPr b="0" lang="en-US" sz="3200" spc="-1" strike="noStrike">
                <a:solidFill>
                  <a:srgbClr val="009999"/>
                </a:solidFill>
                <a:latin typeface="Bauhaus 9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Berlin Sans FB"/>
              </a:rPr>
              <a:t>And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Berlin Sans FB"/>
              </a:rPr>
              <a:t>you were probab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Berlin Sans FB"/>
              </a:rPr>
              <a:t>wa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Berlin Sans FB"/>
              </a:rPr>
              <a:t>to keep ali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533520" y="0"/>
            <a:ext cx="98488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Forgive 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I was tire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and it totall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slipped my mi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WORKS 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Melisdramatic. Jack Bruno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Kirby the Beta Fish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. Digital Im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http://www.flickr.com/photos/melisdramatic/49427022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Peiz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G2263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. Digital Im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http://www.flickr.com/photos/piez/241787114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Dalla*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Exhausted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. Digital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http://www.flickr.com/photos/dallaportfolio/37596926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5:23:25Z</dcterms:created>
  <dc:creator>Lakeview</dc:creator>
  <dc:description/>
  <dc:language>en-US</dc:language>
  <cp:lastModifiedBy>cyndi.vander_ven</cp:lastModifiedBy>
  <dcterms:modified xsi:type="dcterms:W3CDTF">2009-04-17T17:21:03Z</dcterms:modified>
  <cp:revision>4</cp:revision>
  <dc:subject/>
  <dc:title>This is Just To Say</dc:title>
</cp:coreProperties>
</file>